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1B4-BB76-482A-8345-A11832EF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9B6-B1EE-407D-840A-9CAB31B8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A15-0BAA-4306-81A8-08D743DE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E0C-FE31-4B74-B9C9-B8E00DD4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315F-205F-4F0E-8382-7DE083CD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4635-3719-4C6C-BF9B-6A1499FE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DEAD-8107-4000-9643-C0E7DCE1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4123-6A92-4992-8600-FF1BDC0E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2CA6-53DE-41C2-A102-454F59E3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FDB9-C2A4-49D1-B936-F234FB50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E93C-8E89-44E9-8842-FED9A7A0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554-EB9B-42EC-832E-1F1E9044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A190-D205-4C50-A7DD-8A6228D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AFD1-B871-45EA-A3D7-CE9D5359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1F6A-077B-4776-AF71-39F51318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AA8E-4C4A-497E-BC1A-138E97F1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0C66-6D24-4B58-8105-2BF85141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915-13D6-43EF-93E0-02886843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025-5615-4784-A10F-1550F2BB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634-E095-4003-9747-FCB730A7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F84-F1B4-4061-A939-B926E598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885-84DE-4BFE-9EA1-5EBA277C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860-CF01-407E-AF9E-13FD6AC6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576-E433-46FA-BDCD-489806D1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B6B4-E128-4C53-9BA7-95CB05C7DD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69E4-3022-4A54-83FA-C9354DD0B4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urchon.com/biology/cell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do you think plant cells have one large vacuole but animal cells have several smaller vacuole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>
            <a:hlinkClick r:id="rId2"/>
          </p:cNvPr>
          <p:cNvSpPr/>
          <p:nvPr/>
        </p:nvSpPr>
        <p:spPr>
          <a:xfrm>
            <a:off x="3429000" y="39625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19" h="21600">
                <a:moveTo>
                  <a:pt x="129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19" h="21600">
                <a:moveTo>
                  <a:pt x="10383" y="8224"/>
                </a:moveTo>
                <a:lnTo>
                  <a:pt x="14247" y="8224"/>
                </a:lnTo>
                <a:lnTo>
                  <a:pt x="14247" y="15221"/>
                </a:lnTo>
                <a:lnTo>
                  <a:pt x="15536" y="15221"/>
                </a:lnTo>
                <a:lnTo>
                  <a:pt x="15536" y="16144"/>
                </a:lnTo>
                <a:lnTo>
                  <a:pt x="10383" y="16144"/>
                </a:lnTo>
                <a:lnTo>
                  <a:pt x="10383" y="15221"/>
                </a:lnTo>
                <a:lnTo>
                  <a:pt x="11671" y="15221"/>
                </a:lnTo>
                <a:lnTo>
                  <a:pt x="11671" y="9129"/>
                </a:lnTo>
                <a:lnTo>
                  <a:pt x="10383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21:12Z</dcterms:created>
  <dc:creator>PritchaJ</dc:creator>
  <dc:description/>
  <dc:language>en-US</dc:language>
  <cp:lastModifiedBy>PritchaJ</cp:lastModifiedBy>
  <dcterms:modified xsi:type="dcterms:W3CDTF">2011-06-01T15:23:55Z</dcterms:modified>
  <cp:revision>1</cp:revision>
  <dc:subject/>
  <dc:title>Slide 1</dc:title>
</cp:coreProperties>
</file>